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6688A0-EC12-444E-A7E7-6AF07A886D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2323D7-E9B1-4985-BBB2-92C44C8EE06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81160" y="696960"/>
            <a:ext cx="4648320" cy="3486240"/>
          </a:xfrm>
          <a:prstGeom prst="rect">
            <a:avLst/>
          </a:prstGeom>
          <a:ln w="0">
            <a:noFill/>
          </a:ln>
        </p:spPr>
      </p:sp>
      <p:sp>
        <p:nvSpPr>
          <p:cNvPr id="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8E71C8-5FAC-42CD-BF21-BCED4055CB1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81160" y="696960"/>
            <a:ext cx="4648320" cy="3486240"/>
          </a:xfrm>
          <a:prstGeom prst="rect">
            <a:avLst/>
          </a:prstGeom>
          <a:ln w="0">
            <a:noFill/>
          </a:ln>
        </p:spPr>
      </p:sp>
      <p:sp>
        <p:nvSpPr>
          <p:cNvPr id="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5E32B6-3BC9-47EC-89FF-BDFD0379853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748AA-8EA5-4D89-9993-379D58730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665A3-7E0F-487F-BC01-2C4EB61E6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20F8B-2984-4B30-A7B3-FC768F91A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A4368-002F-4E88-8597-6EE2DF900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D0C87-CEA7-4195-80BA-0EEEBB3DE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AC6A5-5C88-4227-BA62-0FCECFF17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37AFA-AECA-4CDE-9F2A-EF86A1E87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10E90-552A-4AED-A356-17939665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400B-8BC7-45EE-8717-4C347258D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89CED-04AC-45EC-A6E5-9DCB9AC43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356B3-7D0E-4F28-948C-88E3B9249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DF12B-E3B7-4DC0-BB03-4DCD74354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5CD3-4C3B-46D7-A36C-429BFB60EB8A}"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kwintessential.com.uk/recources/global-etiquette/germany-country-profile.html" TargetMode="External"/><Relationship Id="rId2" Type="http://schemas.openxmlformats.org/officeDocument/2006/relationships/hyperlink" Target="http://www.germanculture.com.ua/library/weekly//aa022699.htm" TargetMode="External"/><Relationship Id="rId3" Type="http://schemas.openxmlformats.org/officeDocument/2006/relationships/hyperlink" Target="http://www.cactuslanguage.com/en/culturesmart/culture_germany.php"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5" descr="german powerpoin.jpg"/>
          <p:cNvPicPr/>
          <p:nvPr/>
        </p:nvPicPr>
        <p:blipFill>
          <a:blip r:embed="rId1"/>
          <a:stretch/>
        </p:blipFill>
        <p:spPr>
          <a:xfrm>
            <a:off x="2057400" y="0"/>
            <a:ext cx="5257800" cy="6858000"/>
          </a:xfrm>
          <a:prstGeom prst="rect">
            <a:avLst/>
          </a:prstGeom>
          <a:ln w="0">
            <a:noFill/>
          </a:ln>
        </p:spPr>
      </p:pic>
      <p:sp>
        <p:nvSpPr>
          <p:cNvPr id="49" name="PlaceHolder 1"/>
          <p:cNvSpPr>
            <a:spLocks noGrp="1"/>
          </p:cNvSpPr>
          <p:nvPr>
            <p:ph type="title"/>
          </p:nvPr>
        </p:nvSpPr>
        <p:spPr>
          <a:xfrm>
            <a:off x="76212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man Beliefs</a:t>
            </a:r>
            <a:br>
              <a:rPr sz="4400"/>
            </a:br>
            <a:r>
              <a:rPr b="0" lang="en-US" sz="4400" spc="-1" strike="noStrike">
                <a:solidFill>
                  <a:srgbClr val="000000"/>
                </a:solidFill>
                <a:latin typeface="Calibri"/>
              </a:rPr>
              <a:t> and Values</a:t>
            </a:r>
            <a:endParaRPr b="0" lang="en-US" sz="4400" spc="-1" strike="noStrike">
              <a:solidFill>
                <a:srgbClr val="ffffff"/>
              </a:solidFill>
              <a:latin typeface="Calibri"/>
            </a:endParaRPr>
          </a:p>
        </p:txBody>
      </p:sp>
      <p:sp>
        <p:nvSpPr>
          <p:cNvPr id="50" name="PlaceHolder 2"/>
          <p:cNvSpPr>
            <a:spLocks noGrp="1"/>
          </p:cNvSpPr>
          <p:nvPr>
            <p:ph type="subTitle"/>
          </p:nvPr>
        </p:nvSpPr>
        <p:spPr>
          <a:xfrm>
            <a:off x="1447920" y="4876920"/>
            <a:ext cx="6400800" cy="13716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y: Charlotte Wilhelm</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iod 2</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arter 1</a:t>
            </a:r>
            <a:endParaRPr b="0" lang="en-US" sz="3000" spc="-1" strike="noStrike">
              <a:solidFill>
                <a:srgbClr val="ffffff"/>
              </a:solidFill>
              <a:latin typeface="Calibri"/>
            </a:endParaRPr>
          </a:p>
        </p:txBody>
      </p:sp>
      <p:sp>
        <p:nvSpPr>
          <p:cNvPr id="51" name="AutoShape 2"/>
          <p:cNvSpPr/>
          <p:nvPr/>
        </p:nvSpPr>
        <p:spPr>
          <a:xfrm>
            <a:off x="117360" y="-1041480"/>
            <a:ext cx="2143080" cy="2143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2" name="AutoShape 4"/>
          <p:cNvSpPr/>
          <p:nvPr/>
        </p:nvSpPr>
        <p:spPr>
          <a:xfrm>
            <a:off x="117360" y="-1041480"/>
            <a:ext cx="2143080" cy="2143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nks</a:t>
            </a:r>
            <a:endParaRPr b="0" lang="en-US" sz="44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rticles: </a:t>
            </a:r>
            <a:endParaRPr b="0" lang="en-US" sz="2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000" spc="-1" strike="noStrike" u="sng">
                <a:solidFill>
                  <a:srgbClr val="0000ff"/>
                </a:solidFill>
                <a:uFillTx/>
                <a:latin typeface="Calibri"/>
                <a:hlinkClick r:id="rId1"/>
              </a:rPr>
              <a:t>http://www.kwintessential.com.uk/recources/global-etiquette/germany-country-profile.html</a:t>
            </a:r>
            <a:endParaRPr b="0" lang="en-US" sz="1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    </a:t>
            </a:r>
            <a:r>
              <a:rPr b="0" lang="en-US" sz="1000" spc="-1" strike="noStrike" u="sng">
                <a:solidFill>
                  <a:srgbClr val="0000ff"/>
                </a:solidFill>
                <a:uFillTx/>
                <a:latin typeface="Calibri"/>
                <a:hlinkClick r:id="rId2"/>
              </a:rPr>
              <a:t>http://www.germanculture.com.ua/library/weekly//aa022699.htm</a:t>
            </a:r>
            <a:endParaRPr b="0" lang="en-US" sz="1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    </a:t>
            </a:r>
            <a:r>
              <a:rPr b="0" lang="en-US" sz="1000" spc="-1" strike="noStrike" u="sng">
                <a:solidFill>
                  <a:srgbClr val="0000ff"/>
                </a:solidFill>
                <a:uFillTx/>
                <a:latin typeface="Calibri"/>
                <a:hlinkClick r:id="rId3"/>
              </a:rPr>
              <a:t>http://www.cactuslanguage.com/en/culturesmart/culture_germany.php</a:t>
            </a:r>
            <a:endParaRPr b="0" lang="en-US" sz="1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    </a:t>
            </a:r>
            <a:r>
              <a:rPr b="0" lang="en-US" sz="1000" spc="-1" strike="noStrike">
                <a:solidFill>
                  <a:srgbClr val="ffffff"/>
                </a:solidFill>
                <a:latin typeface="Calibri"/>
              </a:rPr>
              <a:t>http://www.everyculture.com/Ge-It/Germany.html</a:t>
            </a:r>
            <a:endParaRPr b="0" lang="en-US" sz="1000" spc="-1" strike="noStrike">
              <a:solidFill>
                <a:srgbClr val="ffffff"/>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ictures:</a:t>
            </a:r>
            <a:endParaRPr b="0" lang="en-US" sz="2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http://www.google.com/imgres?q=german&amp;um=1&amp;hl=en&amp;biw=1366&amp;bih=627&amp;tbm=isch&amp;tbnid=HGlCckGVxtzYUM:&amp;imgrefurl=http://www.vdrrottweilerbreeders.com/rottweiler_standard_height_chart.html&amp;docid=l9A7sfF75E64VM&amp;w=280&amp;h=350&amp;ei=6e1eTsXwJpO4twfQzJimCw&amp;zoom=1</a:t>
            </a:r>
            <a:endParaRPr b="0" lang="en-US" sz="1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http://www.google.com/imgres?q=germans+shaking+hands&amp;um=1&amp;hl=en&amp;biw=1366&amp;bih=627&amp;tbm=isch&amp;tbnid=ZgSNtVDn4hBYRM:&amp;imgrefurl=http://www.visualphotos.com/image/2x4450268/germany_munich_two_business_men_shaking_hands_side&amp;docid=vpgklGpPmCdpZM&amp;w=650&amp;h=453&amp;ei=W-5eTqaGBI6itgf2jOGlCw&amp;zoom=1</a:t>
            </a:r>
            <a:endParaRPr b="0" lang="en-US" sz="1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ictures:</a:t>
            </a:r>
            <a:r>
              <a:rPr b="0" lang="en-US" sz="3200" spc="-1" strike="noStrike">
                <a:solidFill>
                  <a:srgbClr val="ffffff"/>
                </a:solidFill>
                <a:latin typeface="Calibri"/>
              </a:rPr>
              <a:t> </a:t>
            </a:r>
            <a:r>
              <a:rPr b="0" lang="en-US" sz="1000" spc="-1" strike="noStrike">
                <a:solidFill>
                  <a:srgbClr val="ffffff"/>
                </a:solidFill>
                <a:latin typeface="Calibri"/>
              </a:rPr>
              <a:t>http://www.google.com/imgres?q=german+house+with+garden&amp;hl=en&amp;biw=1366&amp;bih=627&amp;gbv=2&amp;tbm=isch&amp;tbnid=omiUb5wTSvHh5M:&amp;imgrefurl=http://www.superstock.com/stock-photos-images/1848-459470&amp;docid=XuBw6wC57mrB2M&amp;w=350&amp;h=232&amp;ei=3_NeTsvpFMmgtwfugrmlCw&amp;zoom=1</a:t>
            </a:r>
            <a:endParaRPr b="0" lang="en-US" sz="1000" spc="-1" strike="noStrike">
              <a:solidFill>
                <a:srgbClr val="ffffff"/>
              </a:solidFill>
              <a:latin typeface="Calibri"/>
            </a:endParaRPr>
          </a:p>
          <a:p>
            <a:pPr marL="332640" indent="-3326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http://www.google.com/imgres?q=wine+chocolate+and+flowers&amp;hl=en&amp;biw=1366&amp;bih=627&amp;gbv=2&amp;tbm=isch&amp;tbnid=N1ocw51uT0n4vM:&amp;imgrefurl=http://www.buyagift.co.uk/Product/Id/3965/Name/Bright_Bouquet_with_Wine_and_Chocolates&amp;docid=7v_uD9DXDgnfLM&amp;w=300&amp;h=208&amp;ei=0_ReTsarLs-_tgfx-_ilCw&amp;zoom=1&amp;iact=rc&amp;dur=3&amp;page=1&amp;tbnh=151&amp;tbnw=239&amp;start=0&amp;ndsp=21&amp;ved=1t:429,r:0,s:0&amp;tx=148&amp;ty=64</a:t>
            </a:r>
            <a:endParaRPr b="0" lang="en-US" sz="1000" spc="-1" strike="noStrike">
              <a:solidFill>
                <a:srgbClr val="ffffff"/>
              </a:solidFill>
              <a:latin typeface="Calibri"/>
            </a:endParaRPr>
          </a:p>
          <a:p>
            <a:pPr marL="332640" indent="-3326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32640" indent="-3326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http://www.google.com/imgres?q=french+wine&amp;hl=en&amp;gbv=2&amp;biw=1366&amp;bih=627&amp;tbm=isch&amp;tbnid=SNxQAYfH9kdoXM:&amp;imgrefurl=http://www.streetdirectory.com/etoday/list-of-french-wines-cljowa.html&amp;docid=voCtu2epBXhw6M&amp;w=300&amp;h=228&amp;ei=QPZeTpXRM5OTtweuvcClCw&amp;zoom=1</a:t>
            </a:r>
            <a:endParaRPr b="0" lang="en-US" sz="1000" spc="-1" strike="noStrike">
              <a:solidFill>
                <a:srgbClr val="ffffff"/>
              </a:solidFill>
              <a:latin typeface="Calibri"/>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uthor:</a:t>
            </a:r>
            <a:endParaRPr b="0" lang="en-US" sz="2000" spc="-1" strike="noStrike">
              <a:solidFill>
                <a:srgbClr val="ffffff"/>
              </a:solidFill>
              <a:latin typeface="Calibri"/>
            </a:endParaRPr>
          </a:p>
          <a:p>
            <a:pPr marL="332640" indent="-3326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1600" spc="-1" strike="noStrike">
                <a:solidFill>
                  <a:srgbClr val="ffffff"/>
                </a:solidFill>
                <a:latin typeface="Calibri"/>
              </a:rPr>
              <a:t>Charlotte Wilhelm</a:t>
            </a:r>
            <a:endParaRPr b="0" lang="en-US" sz="1600" spc="-1" strike="noStrike">
              <a:solidFill>
                <a:srgbClr val="ffffff"/>
              </a:solidFill>
              <a:latin typeface="Calibri"/>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reetings </a:t>
            </a:r>
            <a:endParaRPr b="0" lang="en-US" sz="44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entering a room always shake the hand of every person individually, including the childre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rmans keep their greetings very formal.</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greeting someone Germans take great pride in their titles for respect. Always use a persons title and their surname until instructed to use the first name.</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y do this by establishing a quick, firm handshake for the traditional greeting.</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55" name="Content Placeholder 8" descr="gp.jpg"/>
          <p:cNvPicPr/>
          <p:nvPr/>
        </p:nvPicPr>
        <p:blipFill>
          <a:blip r:embed="rId1"/>
          <a:stretch/>
        </p:blipFill>
        <p:spPr>
          <a:xfrm>
            <a:off x="3962520" y="4419720"/>
            <a:ext cx="350496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Business Meetings</a:t>
            </a:r>
            <a:endParaRPr b="0" lang="en-US" sz="4400" spc="-1" strike="noStrike">
              <a:solidFill>
                <a:srgbClr val="ffffff"/>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Germans believe that all meetings should be very formal.</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n exception would be only for the first meeting which is used to get to know each other more.</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ny other time it is considered inappropriate to discuss ones personal life at work.</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the end of the meeting, Germans will signal their approval by knocking their knuckles on the tabletop.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omes</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ermans believe that their home should be only open to close friends and famil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munication is rather informal in the home making it the one place where Germans can really relax</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y take great pride in keeping their homes neat and tidy and that everything is in its appointed plac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omes Cont.</a:t>
            </a:r>
            <a:endParaRPr b="0" lang="en-US" sz="4400" spc="-1" strike="noStrike">
              <a:solidFill>
                <a:srgbClr val="ffffff"/>
              </a:solidFill>
              <a:latin typeface="Calibri"/>
            </a:endParaRPr>
          </a:p>
        </p:txBody>
      </p:sp>
      <p:pic>
        <p:nvPicPr>
          <p:cNvPr id="61" name="Content Placeholder 8" descr="imagesCAGHR7VR.jpg"/>
          <p:cNvPicPr/>
          <p:nvPr/>
        </p:nvPicPr>
        <p:blipFill>
          <a:blip r:embed="rId1"/>
          <a:stretch/>
        </p:blipFill>
        <p:spPr>
          <a:xfrm>
            <a:off x="2362320" y="1295280"/>
            <a:ext cx="4095720" cy="2716200"/>
          </a:xfrm>
          <a:prstGeom prst="rect">
            <a:avLst/>
          </a:prstGeom>
          <a:ln w="0">
            <a:noFill/>
          </a:ln>
        </p:spPr>
      </p:pic>
      <p:sp>
        <p:nvSpPr>
          <p:cNvPr id="62" name=""/>
          <p:cNvSpPr txBox="1"/>
          <p:nvPr/>
        </p:nvSpPr>
        <p:spPr>
          <a:xfrm>
            <a:off x="380880" y="4190760"/>
            <a:ext cx="8305920" cy="193500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ermans also values the outside of their homes almost more than they do the inside. To do this the sidewalks, pavements, corridors, and steps are kept clean at all time. Gardens and yards are also well maintained.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ift Giving</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fts are opened right when receiv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you are invited to a Germans house it is expected that you bring a gift such as chocolate, wine, or flowers.</a:t>
            </a:r>
            <a:endParaRPr b="0" lang="en-US" sz="3200" spc="-1" strike="noStrike">
              <a:solidFill>
                <a:srgbClr val="ffffff"/>
              </a:solidFill>
              <a:latin typeface="Calibri"/>
            </a:endParaRPr>
          </a:p>
        </p:txBody>
      </p:sp>
      <p:pic>
        <p:nvPicPr>
          <p:cNvPr id="65" name="Picture 3" descr="untitled.bmp"/>
          <p:cNvPicPr/>
          <p:nvPr/>
        </p:nvPicPr>
        <p:blipFill>
          <a:blip r:embed="rId1"/>
          <a:stretch/>
        </p:blipFill>
        <p:spPr>
          <a:xfrm>
            <a:off x="2438280" y="3886200"/>
            <a:ext cx="403884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iving Gifts Cont.</a:t>
            </a:r>
            <a:endParaRPr b="0" lang="en-US" sz="4400" spc="-1" strike="noStrike">
              <a:solidFill>
                <a:srgbClr val="ffffff"/>
              </a:solidFill>
              <a:latin typeface="Calibri"/>
            </a:endParaRPr>
          </a:p>
        </p:txBody>
      </p:sp>
      <p:sp>
        <p:nvSpPr>
          <p:cNvPr id="67"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f you choose to bring wine it should be imported from France or Italy.</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f you give a German host wine from Germany this tells the host  you do not think they will serve good wine and is a major insult.</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8" name="Content Placeholder 5" descr="imagesCAN1574B.jpg"/>
          <p:cNvPicPr/>
          <p:nvPr/>
        </p:nvPicPr>
        <p:blipFill>
          <a:blip r:embed="rId1"/>
          <a:stretch/>
        </p:blipFill>
        <p:spPr>
          <a:xfrm>
            <a:off x="4724280" y="2133720"/>
            <a:ext cx="3726000" cy="282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s</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When entering a room you should shake the hand of…</a:t>
            </a:r>
            <a:endParaRPr b="0" lang="en-US" sz="3200" spc="-1" strike="noStrike">
              <a:solidFill>
                <a:srgbClr val="ffffff"/>
              </a:solidFill>
              <a:latin typeface="Calibri"/>
            </a:endParaRPr>
          </a:p>
          <a:p>
            <a:pPr marL="343080" indent="-343080">
              <a:spcBef>
                <a:spcPts val="799"/>
              </a:spcBef>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eryone     B) The adults only  C) No one</a:t>
            </a:r>
            <a:endParaRPr b="0" lang="en-US" sz="3200" spc="-1" strike="noStrike">
              <a:solidFill>
                <a:srgbClr val="ffffff"/>
              </a:solidFill>
              <a:latin typeface="Calibri"/>
            </a:endParaRPr>
          </a:p>
          <a:p>
            <a:pPr marL="343080" indent="-343080">
              <a:spcBef>
                <a:spcPts val="799"/>
              </a:spcBef>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Germans homes are… </a:t>
            </a:r>
            <a:endParaRPr b="0" lang="en-US" sz="3200" spc="-1" strike="noStrike">
              <a:solidFill>
                <a:srgbClr val="ffffff"/>
              </a:solidFill>
              <a:latin typeface="Calibri"/>
            </a:endParaRPr>
          </a:p>
          <a:p>
            <a:pPr marL="343080" indent="-343080">
              <a:spcBef>
                <a:spcPts val="799"/>
              </a:spcBef>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ways messy  B) Clean only on the inside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 Clean inside and outside to make a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better impression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swers</a:t>
            </a: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A, Everyon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C, Clean inside and outside to make a better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impressi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00:44:20Z</dcterms:created>
  <dc:creator>Charlotte Wilhelm</dc:creator>
  <dc:description/>
  <dc:language>en-US</dc:language>
  <cp:lastModifiedBy>SCSadmin</cp:lastModifiedBy>
  <dcterms:modified xsi:type="dcterms:W3CDTF">2011-10-14T14:01:04Z</dcterms:modified>
  <cp:revision>21</cp:revision>
  <dc:subject/>
  <dc:title>Slide 1</dc:title>
</cp:coreProperties>
</file>